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C08-D7EA-4C75-80DC-59A3F6CF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D60-8E69-45AB-A670-DE49C197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99B-51FA-451F-AE9E-7AFA6334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A27-E60C-4793-8B1C-7D3A0A1B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E47-65AB-4F9C-80C7-CABA8178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068-9E8E-4023-B133-BD77E37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3FC-D7BF-440E-AD20-FC00AB7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518-88A5-41CE-9C88-0FF41D39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332-7B3D-4BC6-8630-D318E74B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ADA-D1A8-4C44-AD92-B18E8F46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B9E-AC30-4FCE-B5EC-441406A3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310-E60A-487F-B404-C1157E0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240-7388-4878-BE42-3BCDF7BC6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bing.com/images/search?q=using&amp;view=detail&amp;id=BC7A4EC4FD1019B92D40CE3EA720A6D104B0D54B&amp;first=0&amp;FORM=IDFRIR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imageof.net/" TargetMode="External"/><Relationship Id="rId5" Type="http://schemas.openxmlformats.org/officeDocument/2006/relationships/hyperlink" Target="http://www.bing.com/images/search?q=using&amp;view=detail&amp;id=FE14C83380E3A76A9352C7009C3E5C4C0086E1DA&amp;first=0&amp;FORM=IDFRIR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old-picture.com/" TargetMode="External"/><Relationship Id="rId8" Type="http://schemas.openxmlformats.org/officeDocument/2006/relationships/hyperlink" Target="http://www.bing.com/images/search?q=using&amp;view=detail&amp;id=D0A30CC5B79C049FD5ECE696BDA1CEFD5B8E8463&amp;first=0&amp;FORM=IDFRIR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www.bing.com/images/search?q=using&amp;view=detail&amp;id=C37604403829FC6B5DCA298AF66377F88997574A&amp;first=60&amp;FORM=IDFRIR" TargetMode="External"/><Relationship Id="rId11" Type="http://schemas.openxmlformats.org/officeDocument/2006/relationships/image" Target="../media/image27.jpeg"/><Relationship Id="rId12" Type="http://schemas.openxmlformats.org/officeDocument/2006/relationships/hyperlink" Target="http://www.123rf.com/" TargetMode="Externa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ing.com/images/search?q=managing&amp;view=detail&amp;id=2CD718C8B47B32115010310C14DF6D31729C955B&amp;first=0&amp;FORM=IDFRIR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bing.com/images/search?q=managing&amp;view=detail&amp;id=FF78E0762EC48009886E0066448CD2357452C958&amp;first=0&amp;FORM=IDFRIR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www.completetrainer.co.uk/" TargetMode="External"/><Relationship Id="rId7" Type="http://schemas.openxmlformats.org/officeDocument/2006/relationships/hyperlink" Target="http://www.bing.com/images/search?q=managing&amp;view=detail&amp;id=CA46E74F402B60B9B01D3B918B75A86F4D625FE4&amp;first=0&amp;FORM=IDFRIR" TargetMode="External"/><Relationship Id="rId8" Type="http://schemas.openxmlformats.org/officeDocument/2006/relationships/image" Target="../media/image32.jpeg"/><Relationship Id="rId9" Type="http://schemas.openxmlformats.org/officeDocument/2006/relationships/hyperlink" Target="http://www.bing.com/images/search?q=managing&amp;view=detail&amp;id=29F57BDD56DE90F180E06B739FCB1ED9FC7A43EF&amp;first=120&amp;FORM=IDFRIR" TargetMode="External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google.com/imgres?q=process&amp;hl=en&amp;biw=1280&amp;bih=843&amp;gbv=2&amp;tbm=isch&amp;tbnid=_5pQDmztf9m9oM:&amp;imgrefurl=http://www.mos.org/eie/engineering_design.php&amp;docid=TCxkP9-spVNT7M&amp;w=1078&amp;h=763&amp;ei=9sV5TvixDZG5tgemtZnlDw&amp;zoom=1&amp;iact=hc&amp;vpx=357&amp;vpy=191&amp;dur=2562&amp;hovh=189&amp;hovw=267&amp;tx=131&amp;ty=212&amp;page=1&amp;tbnh=131&amp;tbnw=185&amp;start=0&amp;ndsp=24&amp;ved=1t:429,r:1,s:0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www.google.com/imgres?q=resources&amp;hl=en&amp;biw=1280&amp;bih=843&amp;gbv=2&amp;tbm=isch&amp;tbnid=DmG46FHb2VQ_BM:&amp;imgrefurl=http://www.almightydad.com/language-learning-2/learning-german-week-12-finding-more-resources&amp;docid=bBPtYn-NzooxdM&amp;w=361&amp;h=337&amp;ei=_sZ5TouoOoW6tgePpKH1Dw&amp;zoom=1&amp;iact=hc&amp;vpx=373&amp;vpy=152&amp;dur=1125&amp;hovh=217&amp;hovw=232&amp;tx=132&amp;ty=238&amp;page=1&amp;tbnh=139&amp;tbnw=149&amp;start=0&amp;ndsp=23&amp;ved=1t:429,r:12,s:0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www.google.com/imgres?q=resources&amp;hl=en&amp;biw=1280&amp;bih=843&amp;gbv=2&amp;tbm=isch&amp;tbnid=TwK-yZKVjTPvbM:&amp;imgrefurl=http://crown.ucsc.edu/advising/resources.html&amp;docid=7XIL1IttnH_wtM&amp;w=393&amp;h=305&amp;ei=_sZ5TouoOoW6tgePpKH1Dw&amp;zoom=1&amp;iact=hc&amp;vpx=782&amp;vpy=175&amp;dur=1282&amp;hovh=198&amp;hovw=255&amp;tx=134&amp;ty=225&amp;page=4&amp;tbnh=141&amp;tbnw=197&amp;start=68&amp;ndsp=21&amp;ved=1t:429,r:3,s:68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www.google.com/imgres?q=resources&amp;hl=en&amp;biw=1280&amp;bih=843&amp;gbv=2&amp;tbm=isch&amp;tbnid=zM9Q9pB8sKu97M:&amp;imgrefurl=http://www.optionstradingclub.com/resources/&amp;docid=uBVv2tEWMnY1rM&amp;w=322&amp;h=307&amp;ei=_sZ5TouoOoW6tgePpKH1Dw&amp;zoom=1&amp;iact=hc&amp;vpx=1004&amp;vpy=321&amp;dur=1500&amp;hovh=219&amp;hovw=230&amp;tx=119&amp;ty=239&amp;page=4&amp;tbnh=149&amp;tbnw=108&amp;start=68&amp;ndsp=21&amp;ved=1t:429,r:10,s:68" TargetMode="External"/><Relationship Id="rId9" Type="http://schemas.openxmlformats.org/officeDocument/2006/relationships/image" Target="../media/image42.png"/><Relationship Id="rId10" Type="http://schemas.openxmlformats.org/officeDocument/2006/relationships/hyperlink" Target="http://www.bing.com/images/search?q=resources&amp;view=detail&amp;id=B997ED19ACFA8FB1C3E4A30E8AC444421E617222&amp;first=0&amp;FORM=IDFRIR" TargetMode="External"/><Relationship Id="rId11" Type="http://schemas.openxmlformats.org/officeDocument/2006/relationships/image" Target="../media/image43.jpeg"/><Relationship Id="rId12" Type="http://schemas.openxmlformats.org/officeDocument/2006/relationships/hyperlink" Target="http://www.med.navy.mil/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ingdomcoffee.co.uk/" TargetMode="External"/><Relationship Id="rId3" Type="http://schemas.openxmlformats.org/officeDocument/2006/relationships/hyperlink" Target="http://www.bing.com/images/search?q=ethical&amp;view=detail&amp;id=3D514D3359C6F0E0C62329B634A1E87DB03F4E27&amp;first=0&amp;FORM=IDFRIR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bing.com/images/search?q=ethical&amp;view=detail&amp;id=2C4B76F6369AD2BFF5FD0A0AF38ADAC3338F2216&amp;first=0&amp;FORM=IDFRIR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bing.com/images/search?q=ethical&amp;view=detail&amp;id=FAC7F234DAE5F46A60FEA050275A8DAE52E97185&amp;first=0&amp;FORM=IDFRIR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bing.com/images/search?q=facilitate+learning&amp;view=detail&amp;id=4D7BAE4A7CB9EC880E876BA31660CC1C67467019&amp;first=0&amp;FORM=IDFRIR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ing.com/images/search?q=facilitate+learning&amp;view=detail&amp;id=16DF43BF9D01D77ED78A96EC561B88B8D8DBCDF5&amp;first=0&amp;FORM=IDFRIR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natcom.org/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bing.com/images/search?q=improving+performance&amp;view=detail&amp;id=1C3FFE3331095CAEFD5424A2528F3E652913F64A&amp;first=120&amp;FORM=IDFRIR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thankq.co.uk/" TargetMode="External"/><Relationship Id="rId5" Type="http://schemas.openxmlformats.org/officeDocument/2006/relationships/hyperlink" Target="http://www.bing.com/images/search?q=improving+performance&amp;view=detail&amp;id=E11480DD6E8BBD9792DA0EBFE9F6B08B28EA2B33&amp;first=0&amp;FORM=IDFRIR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performint.com/" TargetMode="External"/><Relationship Id="rId8" Type="http://schemas.openxmlformats.org/officeDocument/2006/relationships/hyperlink" Target="http://www.bing.com/images/search?q=improving+performance&amp;view=detail&amp;id=1D00888B5FBEA8C5537D0CDA6BDC87B0838BE5DF&amp;first=30&amp;FORM=IDFRIR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fennassociates.com/" TargetMode="External"/><Relationship Id="rId11" Type="http://schemas.openxmlformats.org/officeDocument/2006/relationships/hyperlink" Target="http://www.bing.com/images/search?q=improving+performance&amp;view=detail&amp;id=389F1B4D17DDD7E5CEA1A0F433D8137A8BBB8B4A&amp;first=120&amp;FORM=IDFRIR" TargetMode="External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bing.com/images/search?q=creating&amp;view=detail&amp;id=B470DD3D514A16DC2C2200DF49EFC2278A616354&amp;first=120&amp;FORM=IDFRIR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www.bing.com/images/search?q=creating&amp;view=detail&amp;id=205168247BC5824DEF6CDB7CEC8BD1FAFCD8A5F4&amp;first=120&amp;FORM=IDFRIR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bing.com/images/search?q=creating&amp;view=detail&amp;id=B8E006967D1EACFFB7A8FC1098830964F934FA87&amp;first=300&amp;FORM=IDFRIR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beinteriordecorator.com/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www.google.com/imgres?q=creating&amp;hl=en&amp;biw=1280&amp;bih=843&amp;gbv=2&amp;tbm=isch&amp;tbnid=R45v1xZ0ibC2nM:&amp;imgrefurl=http://dreamhousewebsolutions.net/creating-ideas-using-the-scamper-mnemonic/&amp;docid=NJD8ueAHDSgkBM&amp;w=500&amp;h=375&amp;ei=2sN5TvKNFsKftweIqJnwDw&amp;zoom=1&amp;iact=hc&amp;vpx=312&amp;vpy=158&amp;dur=2016&amp;hovh=194&amp;hovw=259&amp;tx=5&amp;ty=216&amp;page=6&amp;tbnh=139&amp;tbnw=185&amp;start=115&amp;ndsp=24&amp;ved=1t:429,r:19,s:115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Educational technology is the study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thical practi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acilitating learn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mproving performanc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reat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ag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ppropriate technological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esourc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" (Januszewski &amp; Molenda, 2008, p. 1). (Italics added for emphasis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visual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1"/>
          <p:cNvGrpSpPr/>
          <p:nvPr/>
        </p:nvGrpSpPr>
        <p:grpSpPr>
          <a:xfrm>
            <a:off x="304920" y="0"/>
            <a:ext cx="8839080" cy="6734520"/>
            <a:chOff x="304920" y="0"/>
            <a:chExt cx="8839080" cy="6734520"/>
          </a:xfrm>
        </p:grpSpPr>
        <p:pic>
          <p:nvPicPr>
            <p:cNvPr id="102" name="Rectangle 1" descr=""/>
            <p:cNvPicPr/>
            <p:nvPr/>
          </p:nvPicPr>
          <p:blipFill>
            <a:blip r:embed="rId1"/>
            <a:stretch/>
          </p:blipFill>
          <p:spPr>
            <a:xfrm>
              <a:off x="2432160" y="91080"/>
              <a:ext cx="3998880" cy="11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10"/>
            <p:cNvGrpSpPr/>
            <p:nvPr/>
          </p:nvGrpSpPr>
          <p:grpSpPr>
            <a:xfrm>
              <a:off x="304920" y="0"/>
              <a:ext cx="8839080" cy="6734520"/>
              <a:chOff x="304920" y="0"/>
              <a:chExt cx="8839080" cy="6734520"/>
            </a:xfrm>
          </p:grpSpPr>
          <p:pic>
            <p:nvPicPr>
              <p:cNvPr id="104" name="Picture 2" descr="http://ts4.mm.bing.net/images/thumbnail.aspx?q=1268279424119&amp;id=727f1a21b006256f837a47c699d2b9dd&amp;url=http%3a%2f%2fwww.imageof.net%2fbulkupload%2fwallpapers8%2fDogs%2fDog%2520Using%2520Computer.jpg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304920" y="1066680"/>
                <a:ext cx="2857320" cy="214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Rectangle 3"/>
              <p:cNvSpPr/>
              <p:nvPr/>
            </p:nvSpPr>
            <p:spPr>
              <a:xfrm>
                <a:off x="846360" y="3276360"/>
                <a:ext cx="1104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4"/>
                  </a:rPr>
                  <a:t>www.imageof.net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6" name="Picture 4" descr="http://ts1.mm.bing.net/images/thumbnail.aspx?q=1235577347952&amp;id=e5e07be0784ca6b13a8e1fc5160e1858&amp;url=http%3a%2f%2fwww.old-picture.com%2famerican-legacy%2f001%2fpictures%2fMachine-Adding-Using.jpg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3429000" y="2361960"/>
                <a:ext cx="2257200" cy="28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Rectangle 5"/>
              <p:cNvSpPr/>
              <p:nvPr/>
            </p:nvSpPr>
            <p:spPr>
              <a:xfrm>
                <a:off x="3437280" y="1904760"/>
                <a:ext cx="1302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7"/>
                  </a:rPr>
                  <a:t>www.old-picture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8" name="Picture 6" descr="http://ts1.mm.bing.net/images/thumbnail.aspx?q=1264959359912&amp;id=ce8ffd643572c3cd7481f361f7a0097a&amp;url=http%3a%2f%2fwww.preparednesspro.com%2fblog%2fwp-content%2fuploads%2f2010%2f01%2fcomputer-person-pic.jpg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286680" y="0"/>
                <a:ext cx="2857320" cy="28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7"/>
              <p:cNvSpPr/>
              <p:nvPr/>
            </p:nvSpPr>
            <p:spPr>
              <a:xfrm>
                <a:off x="6863040" y="2971440"/>
                <a:ext cx="80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qwikstep.eu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8" descr="http://ts1.mm.bing.net/images/thumbnail.aspx?q=1169348886996&amp;id=d0f39bfdc5b56f851ffd03b09d473472&amp;url=http%3a%2f%2fus.123rf.com%2f400wm%2f400%2f400%2fstockbroker%2fstockbroker1010%2fstockbroker101000433%2f8108766-family-using-laptop-at-home.jpg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5943600" y="4419000"/>
                <a:ext cx="2857320" cy="205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Rectangle 9"/>
              <p:cNvSpPr/>
              <p:nvPr/>
            </p:nvSpPr>
            <p:spPr>
              <a:xfrm>
                <a:off x="6638400" y="6488280"/>
                <a:ext cx="100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12"/>
                  </a:rPr>
                  <a:t>www.123rf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mcdonaldsf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Rectangle 1" descr=""/>
            <p:cNvPicPr/>
            <p:nvPr/>
          </p:nvPicPr>
          <p:blipFill>
            <a:blip r:embed="rId1"/>
            <a:stretch/>
          </p:blipFill>
          <p:spPr>
            <a:xfrm>
              <a:off x="2401560" y="2785680"/>
              <a:ext cx="4273200" cy="18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" descr="http://ts3.mm.bing.net/images/thumbnail.aspx?q=1200945105794&amp;id=00be2608e4ac0f0397067b0086c6f44f&amp;url=http%3a%2f%2fgetentrepreneurial.com%2fwp-content%2fuploads%2f2011%2f03%2fTop-10-Tips-for-Managing-Down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3"/>
            <p:cNvSpPr/>
            <p:nvPr/>
          </p:nvSpPr>
          <p:spPr>
            <a:xfrm>
              <a:off x="467640" y="1981080"/>
              <a:ext cx="141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getentrepreneurial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4" descr="http://ts2.mm.bing.net/images/thumbnail.aspx?q=1169589867481&amp;id=5511009aebb0794dcab4f8b551abbff7&amp;url=http%3a%2f%2fwww.completetrainer.co.uk%2flg_images%2fManaging_Successful_Meetings_suggested_Reading_List_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629400" y="4343400"/>
              <a:ext cx="251460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 rot="16200000">
              <a:off x="5619600" y="5348160"/>
              <a:ext cx="162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www.completetrainer.co.u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" name="Picture 6" descr="http://ts2.mm.bing.net/images/thumbnail.aspx?q=1261708051233&amp;id=e54926c0a1f392a68a7b74cdc372367e&amp;url=http%3a%2f%2fcloud.graphicleftovers.com%2f15381%2f201004%2fmanaging-people-background-concept.jpg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4000680"/>
              <a:ext cx="285732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7"/>
            <p:cNvSpPr/>
            <p:nvPr/>
          </p:nvSpPr>
          <p:spPr>
            <a:xfrm>
              <a:off x="315000" y="648900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graphicleftovers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8" descr="http://ts1.mm.bing.net/images/thumbnail.aspx?q=1238683299900&amp;id=229b2484be05e9daceb39551d6fc0774&amp;url=http%3a%2f%2fcuttingliabilities.com%2fwp-content%2fuploads%2f2011%2f01%2fYou-should-learn-how-to-manage-your-business-growth.jp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286680" y="0"/>
              <a:ext cx="28573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9"/>
            <p:cNvSpPr/>
            <p:nvPr/>
          </p:nvSpPr>
          <p:spPr>
            <a:xfrm>
              <a:off x="6487920" y="1752480"/>
              <a:ext cx="124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uttingliabilities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3" name="Straight Arrow Connector 11"/>
            <p:cNvCxnSpPr/>
            <p:nvPr/>
          </p:nvCxnSpPr>
          <p:spPr>
            <a:xfrm flipV="1">
              <a:off x="1141920" y="2286360"/>
              <a:ext cx="2160" cy="21340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4" name="Straight Arrow Connector 13"/>
            <p:cNvCxnSpPr/>
            <p:nvPr/>
          </p:nvCxnSpPr>
          <p:spPr>
            <a:xfrm>
              <a:off x="2361600" y="1904400"/>
              <a:ext cx="3810600" cy="259164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5" name="Straight Arrow Connector 15"/>
            <p:cNvCxnSpPr/>
            <p:nvPr/>
          </p:nvCxnSpPr>
          <p:spPr>
            <a:xfrm flipV="1">
              <a:off x="7466760" y="2057400"/>
              <a:ext cx="2160" cy="19054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mcdonalds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5"/>
          <p:cNvGrpSpPr/>
          <p:nvPr/>
        </p:nvGrpSpPr>
        <p:grpSpPr>
          <a:xfrm>
            <a:off x="304920" y="228600"/>
            <a:ext cx="8378640" cy="6324120"/>
            <a:chOff x="304920" y="228600"/>
            <a:chExt cx="8378640" cy="6324120"/>
          </a:xfrm>
        </p:grpSpPr>
        <p:pic>
          <p:nvPicPr>
            <p:cNvPr id="128" name="Picture 2" descr="http://www.mos.org/eie/EDP_150dpi.gif"/>
            <p:cNvPicPr/>
            <p:nvPr/>
          </p:nvPicPr>
          <p:blipFill>
            <a:blip r:embed="rId1"/>
            <a:stretch/>
          </p:blipFill>
          <p:spPr>
            <a:xfrm>
              <a:off x="453960" y="850320"/>
              <a:ext cx="8229600" cy="56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Rectangle 2" descr=""/>
            <p:cNvPicPr/>
            <p:nvPr/>
          </p:nvPicPr>
          <p:blipFill>
            <a:blip r:embed="rId2"/>
            <a:stretch/>
          </p:blipFill>
          <p:spPr>
            <a:xfrm>
              <a:off x="1121760" y="228600"/>
              <a:ext cx="340128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3"/>
            <p:cNvSpPr/>
            <p:nvPr/>
          </p:nvSpPr>
          <p:spPr>
            <a:xfrm>
              <a:off x="6559920" y="5361120"/>
              <a:ext cx="96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EDP_150dpi.gif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4"/>
            <p:cNvSpPr/>
            <p:nvPr/>
          </p:nvSpPr>
          <p:spPr>
            <a:xfrm rot="16200000">
              <a:off x="-1792080" y="4178880"/>
              <a:ext cx="447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ttp://www.mos.org/eie/engineering_design.ph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20600" y="-1100160"/>
            <a:ext cx="22957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20600" y="-1100160"/>
            <a:ext cx="22957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59"/>
          <p:cNvGrpSpPr/>
          <p:nvPr/>
        </p:nvGrpSpPr>
        <p:grpSpPr>
          <a:xfrm>
            <a:off x="152280" y="304920"/>
            <a:ext cx="8721720" cy="6253920"/>
            <a:chOff x="152280" y="304920"/>
            <a:chExt cx="8721720" cy="6253920"/>
          </a:xfrm>
        </p:grpSpPr>
        <p:grpSp>
          <p:nvGrpSpPr>
            <p:cNvPr id="135" name="Group 19"/>
            <p:cNvGrpSpPr/>
            <p:nvPr/>
          </p:nvGrpSpPr>
          <p:grpSpPr>
            <a:xfrm>
              <a:off x="1142640" y="3352680"/>
              <a:ext cx="1752480" cy="1685160"/>
              <a:chOff x="1142640" y="3352680"/>
              <a:chExt cx="1752480" cy="1685160"/>
            </a:xfrm>
          </p:grpSpPr>
          <p:pic>
            <p:nvPicPr>
              <p:cNvPr id="136" name="Picture 6" descr="http://keep3.sjfc.edu/students/amr06221/e-port/resources.gif"/>
              <p:cNvPicPr/>
              <p:nvPr/>
            </p:nvPicPr>
            <p:blipFill>
              <a:blip r:embed="rId1"/>
              <a:stretch/>
            </p:blipFill>
            <p:spPr>
              <a:xfrm>
                <a:off x="1142640" y="3352680"/>
                <a:ext cx="1752480" cy="142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Rectangle 4"/>
              <p:cNvSpPr/>
              <p:nvPr/>
            </p:nvSpPr>
            <p:spPr>
              <a:xfrm>
                <a:off x="1407240" y="4791600"/>
                <a:ext cx="83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resources.gif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Group 20"/>
            <p:cNvGrpSpPr/>
            <p:nvPr/>
          </p:nvGrpSpPr>
          <p:grpSpPr>
            <a:xfrm>
              <a:off x="152280" y="380880"/>
              <a:ext cx="2457360" cy="2151360"/>
              <a:chOff x="152280" y="380880"/>
              <a:chExt cx="2457360" cy="2151360"/>
            </a:xfrm>
          </p:grpSpPr>
          <p:pic>
            <p:nvPicPr>
              <p:cNvPr id="139" name="Picture 8" descr="http://t2.gstatic.com/images?q=tbn:ANd9GcQAQsKQN2ZR82oaOx-AZ9vF4p-pMjC_RZ7ZbX0mY6Q1UZvILo_o4Puexo0d"/>
              <p:cNvPicPr/>
              <p:nvPr/>
            </p:nvPicPr>
            <p:blipFill>
              <a:blip r:embed="rId2"/>
              <a:stretch/>
            </p:blipFill>
            <p:spPr>
              <a:xfrm>
                <a:off x="152280" y="380880"/>
                <a:ext cx="2457360" cy="185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Rectangle 7"/>
              <p:cNvSpPr/>
              <p:nvPr/>
            </p:nvSpPr>
            <p:spPr>
              <a:xfrm>
                <a:off x="618480" y="2286000"/>
                <a:ext cx="1293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human_resources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" name="Group 17"/>
            <p:cNvGrpSpPr/>
            <p:nvPr/>
          </p:nvGrpSpPr>
          <p:grpSpPr>
            <a:xfrm>
              <a:off x="4190760" y="990720"/>
              <a:ext cx="1447560" cy="1573560"/>
              <a:chOff x="4190760" y="990720"/>
              <a:chExt cx="1447560" cy="1573560"/>
            </a:xfrm>
          </p:grpSpPr>
          <p:pic>
            <p:nvPicPr>
              <p:cNvPr id="142" name="Picture 10" descr="http://www.almightydad.com/wp-content/uploads/2011/04/resources01.jpg"/>
              <p:cNvPicPr/>
              <p:nvPr/>
            </p:nvPicPr>
            <p:blipFill>
              <a:blip r:embed="rId3"/>
              <a:stretch/>
            </p:blipFill>
            <p:spPr>
              <a:xfrm>
                <a:off x="4190760" y="990720"/>
                <a:ext cx="1447560" cy="13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Rectangle 11"/>
              <p:cNvSpPr/>
              <p:nvPr/>
            </p:nvSpPr>
            <p:spPr>
              <a:xfrm>
                <a:off x="4295520" y="2318040"/>
                <a:ext cx="996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4"/>
                  </a:rPr>
                  <a:t>resources01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4" name="Group 18"/>
            <p:cNvGrpSpPr/>
            <p:nvPr/>
          </p:nvGrpSpPr>
          <p:grpSpPr>
            <a:xfrm>
              <a:off x="3962160" y="3048120"/>
              <a:ext cx="1779480" cy="1693800"/>
              <a:chOff x="3962160" y="3048120"/>
              <a:chExt cx="1779480" cy="1693800"/>
            </a:xfrm>
          </p:grpSpPr>
          <p:pic>
            <p:nvPicPr>
              <p:cNvPr id="145" name="Picture 12" descr="http://crown.ucsc.edu/advising/images/resources-1.jpg"/>
              <p:cNvPicPr/>
              <p:nvPr/>
            </p:nvPicPr>
            <p:blipFill>
              <a:blip r:embed="rId5"/>
              <a:stretch/>
            </p:blipFill>
            <p:spPr>
              <a:xfrm>
                <a:off x="3962160" y="3048120"/>
                <a:ext cx="1779480" cy="13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Rectangle 13"/>
              <p:cNvSpPr/>
              <p:nvPr/>
            </p:nvSpPr>
            <p:spPr>
              <a:xfrm>
                <a:off x="4349520" y="4495680"/>
                <a:ext cx="973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6"/>
                  </a:rPr>
                  <a:t>resources‑1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7" name="Group 16"/>
            <p:cNvGrpSpPr/>
            <p:nvPr/>
          </p:nvGrpSpPr>
          <p:grpSpPr>
            <a:xfrm>
              <a:off x="6400800" y="4114800"/>
              <a:ext cx="2362320" cy="2444040"/>
              <a:chOff x="6400800" y="4114800"/>
              <a:chExt cx="2362320" cy="2444040"/>
            </a:xfrm>
          </p:grpSpPr>
          <p:pic>
            <p:nvPicPr>
              <p:cNvPr id="148" name="Picture 14" descr="http://www.optionstradingclub.com/wp-content/uploads/2010/02/Resources.jpg"/>
              <p:cNvPicPr/>
              <p:nvPr/>
            </p:nvPicPr>
            <p:blipFill>
              <a:blip r:embed="rId7"/>
              <a:stretch/>
            </p:blipFill>
            <p:spPr>
              <a:xfrm>
                <a:off x="6400800" y="4114800"/>
                <a:ext cx="2362320" cy="216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Rectangle 15"/>
              <p:cNvSpPr/>
              <p:nvPr/>
            </p:nvSpPr>
            <p:spPr>
              <a:xfrm>
                <a:off x="7183800" y="6312600"/>
                <a:ext cx="89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8"/>
                  </a:rPr>
                  <a:t>Resources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50" name="Straight Arrow Connector 22"/>
            <p:cNvCxnSpPr/>
            <p:nvPr/>
          </p:nvCxnSpPr>
          <p:spPr>
            <a:xfrm flipH="1">
              <a:off x="2437200" y="2286720"/>
              <a:ext cx="2160" cy="91512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1" name="Straight Arrow Connector 25"/>
            <p:cNvCxnSpPr/>
            <p:nvPr/>
          </p:nvCxnSpPr>
          <p:spPr>
            <a:xfrm>
              <a:off x="2742840" y="1599840"/>
              <a:ext cx="1448280" cy="766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2" name="Straight Arrow Connector 27"/>
            <p:cNvCxnSpPr/>
            <p:nvPr/>
          </p:nvCxnSpPr>
          <p:spPr>
            <a:xfrm>
              <a:off x="2666520" y="2209320"/>
              <a:ext cx="991080" cy="68652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3" name="Straight Arrow Connector 29"/>
            <p:cNvCxnSpPr/>
            <p:nvPr/>
          </p:nvCxnSpPr>
          <p:spPr>
            <a:xfrm>
              <a:off x="2971440" y="3733920"/>
              <a:ext cx="68652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Straight Arrow Connector 39"/>
            <p:cNvCxnSpPr/>
            <p:nvPr/>
          </p:nvCxnSpPr>
          <p:spPr>
            <a:xfrm flipV="1">
              <a:off x="4267080" y="2361600"/>
              <a:ext cx="2160" cy="5338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5" name="Straight Arrow Connector 47"/>
            <p:cNvCxnSpPr/>
            <p:nvPr/>
          </p:nvCxnSpPr>
          <p:spPr>
            <a:xfrm flipH="1">
              <a:off x="5866560" y="1904040"/>
              <a:ext cx="1143720" cy="5338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56" name="Straight Arrow Connector 48"/>
            <p:cNvCxnSpPr/>
            <p:nvPr/>
          </p:nvCxnSpPr>
          <p:spPr>
            <a:xfrm flipH="1">
              <a:off x="5943240" y="2437200"/>
              <a:ext cx="1219680" cy="68652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pic>
          <p:nvPicPr>
            <p:cNvPr id="157" name="Rectangle 49" descr=""/>
            <p:cNvPicPr/>
            <p:nvPr/>
          </p:nvPicPr>
          <p:blipFill>
            <a:blip r:embed="rId9"/>
            <a:stretch/>
          </p:blipFill>
          <p:spPr>
            <a:xfrm>
              <a:off x="585000" y="5181480"/>
              <a:ext cx="4187880" cy="124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50"/>
            <p:cNvGrpSpPr/>
            <p:nvPr/>
          </p:nvGrpSpPr>
          <p:grpSpPr>
            <a:xfrm>
              <a:off x="7086600" y="304920"/>
              <a:ext cx="1787400" cy="2030760"/>
              <a:chOff x="7086600" y="304920"/>
              <a:chExt cx="1787400" cy="2030760"/>
            </a:xfrm>
          </p:grpSpPr>
          <p:pic>
            <p:nvPicPr>
              <p:cNvPr id="159" name="Picture 51" descr="http://ts3.mm.bing.net/images/thumbnail.aspx?q=1131007516782&amp;id=8d5ef24e78f3eb383a69a1ac3b039ecf&amp;url=http%3a%2f%2fwww.med.navy.mil%2fsites%2fnhoh%2fStaff%2fPublishingImages%2fj0439356.jpg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86600" y="304920"/>
                <a:ext cx="1787400" cy="203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Rectangle 52"/>
              <p:cNvSpPr/>
              <p:nvPr/>
            </p:nvSpPr>
            <p:spPr>
              <a:xfrm rot="19143600">
                <a:off x="7713720" y="1508400"/>
                <a:ext cx="1177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12"/>
                  </a:rPr>
                  <a:t>www.med.navy.mil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61" name="Straight Arrow Connector 58"/>
            <p:cNvCxnSpPr/>
            <p:nvPr/>
          </p:nvCxnSpPr>
          <p:spPr>
            <a:xfrm flipH="1">
              <a:off x="8381160" y="2514960"/>
              <a:ext cx="2160" cy="1448280"/>
            </a:xfrm>
            <a:prstGeom prst="straightConnector1">
              <a:avLst/>
            </a:prstGeom>
            <a:ln w="4140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9"/>
          <p:cNvGrpSpPr/>
          <p:nvPr/>
        </p:nvGrpSpPr>
        <p:grpSpPr>
          <a:xfrm>
            <a:off x="622800" y="152280"/>
            <a:ext cx="8373600" cy="6122520"/>
            <a:chOff x="622800" y="152280"/>
            <a:chExt cx="8373600" cy="6122520"/>
          </a:xfrm>
        </p:grpSpPr>
        <p:pic>
          <p:nvPicPr>
            <p:cNvPr id="44" name="Rectangle 3" descr=""/>
            <p:cNvPicPr/>
            <p:nvPr/>
          </p:nvPicPr>
          <p:blipFill>
            <a:blip r:embed="rId1"/>
            <a:stretch/>
          </p:blipFill>
          <p:spPr>
            <a:xfrm>
              <a:off x="1938240" y="152280"/>
              <a:ext cx="550512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18"/>
            <p:cNvGrpSpPr/>
            <p:nvPr/>
          </p:nvGrpSpPr>
          <p:grpSpPr>
            <a:xfrm>
              <a:off x="622800" y="1463040"/>
              <a:ext cx="8373600" cy="4811760"/>
              <a:chOff x="622800" y="1463040"/>
              <a:chExt cx="8373600" cy="4811760"/>
            </a:xfrm>
          </p:grpSpPr>
          <p:sp>
            <p:nvSpPr>
              <p:cNvPr id="46" name="Rectangle 5"/>
              <p:cNvSpPr/>
              <p:nvPr/>
            </p:nvSpPr>
            <p:spPr>
              <a:xfrm>
                <a:off x="622800" y="3387240"/>
                <a:ext cx="1948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renewableenergy2.instablogs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 rot="5400000">
                <a:off x="5997960" y="2869920"/>
                <a:ext cx="1584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www.behaviorresearch.net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3516480" y="6028560"/>
                <a:ext cx="1558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2"/>
                  </a:rPr>
                  <a:t>www.kingdomcoffee.co.uk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" name="Group 17"/>
              <p:cNvGrpSpPr/>
              <p:nvPr/>
            </p:nvGrpSpPr>
            <p:grpSpPr>
              <a:xfrm>
                <a:off x="813600" y="1463040"/>
                <a:ext cx="8182800" cy="4610160"/>
                <a:chOff x="813600" y="1463040"/>
                <a:chExt cx="8182800" cy="4610160"/>
              </a:xfrm>
            </p:grpSpPr>
            <p:pic>
              <p:nvPicPr>
                <p:cNvPr id="50" name="Picture 4" descr="http://ts2.mm.bing.net/images/thumbnail.aspx?q=1081201929993&amp;id=50e1a383a81d628f623a09bca8b82ea0&amp;url=http%3a%2f%2fwww.instablogsimages.com%2fimages%2f2011%2f04%2f12%2fvalues-morality_ONYaL_6201.jpg">
                  <a:hlinkClick r:id="rId3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3600" y="1463040"/>
                  <a:ext cx="2005200" cy="191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6" descr="http://ts1.mm.bing.net/images/thumbnail.aspx?q=1202882809964&amp;id=fe44afde29e2199616888291a58b27d1&amp;url=http%3a%2f%2fwww.behaviorresearch.net%2fEthChoice.jpg">
                  <a:hlinkClick r:id="rId5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062840" y="1539720"/>
                  <a:ext cx="1933560" cy="28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Picture 8" descr="http://ts3.mm.bing.net/images/thumbnail.aspx?q=1230484874586&amp;id=394d58000771fa4448838a068b70ec80&amp;url=http%3a%2f%2fwww.kingdomcoffee.co.uk%2fAssets%2fPicture%2fethical-logo-15780.jpg">
                  <a:hlinkClick r:id="rId7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962520" y="4187520"/>
                  <a:ext cx="1779840" cy="188568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53" name="Straight Arrow Connector 11"/>
                <p:cNvCxnSpPr/>
                <p:nvPr/>
              </p:nvCxnSpPr>
              <p:spPr>
                <a:xfrm>
                  <a:off x="2871000" y="2386440"/>
                  <a:ext cx="3506400" cy="770400"/>
                </a:xfrm>
                <a:prstGeom prst="straightConnector1">
                  <a:avLst/>
                </a:prstGeom>
                <a:ln w="4752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54" name="Curved Connector 14"/>
                <p:cNvCxnSpPr/>
                <p:nvPr/>
              </p:nvCxnSpPr>
              <p:spPr>
                <a:xfrm flipV="1" rot="10800000">
                  <a:off x="5842800" y="4694400"/>
                  <a:ext cx="1905840" cy="847080"/>
                </a:xfrm>
                <a:prstGeom prst="curvedConnector5">
                  <a:avLst>
                    <a:gd name="adj1" fmla="val 49990"/>
                    <a:gd name="adj2" fmla="val 50000"/>
                    <a:gd name="adj3" fmla="val 49990"/>
                  </a:avLst>
                </a:prstGeom>
                <a:ln w="4428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mcdonalds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6"/>
          <p:cNvGrpSpPr/>
          <p:nvPr/>
        </p:nvGrpSpPr>
        <p:grpSpPr>
          <a:xfrm>
            <a:off x="0" y="0"/>
            <a:ext cx="9144000" cy="6781680"/>
            <a:chOff x="0" y="0"/>
            <a:chExt cx="9144000" cy="6781680"/>
          </a:xfrm>
        </p:grpSpPr>
        <p:grpSp>
          <p:nvGrpSpPr>
            <p:cNvPr id="57" name="Group 13"/>
            <p:cNvGrpSpPr/>
            <p:nvPr/>
          </p:nvGrpSpPr>
          <p:grpSpPr>
            <a:xfrm>
              <a:off x="1752480" y="0"/>
              <a:ext cx="7391520" cy="6781680"/>
              <a:chOff x="1752480" y="0"/>
              <a:chExt cx="7391520" cy="6781680"/>
            </a:xfrm>
          </p:grpSpPr>
          <p:pic>
            <p:nvPicPr>
              <p:cNvPr id="58" name="Rectangl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0"/>
                <a:ext cx="5782320" cy="107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" name="Group 12"/>
              <p:cNvGrpSpPr/>
              <p:nvPr/>
            </p:nvGrpSpPr>
            <p:grpSpPr>
              <a:xfrm>
                <a:off x="2998440" y="1085760"/>
                <a:ext cx="6145560" cy="5695920"/>
                <a:chOff x="2998440" y="1085760"/>
                <a:chExt cx="6145560" cy="5695920"/>
              </a:xfrm>
            </p:grpSpPr>
            <p:pic>
              <p:nvPicPr>
                <p:cNvPr id="60" name="Picture 2" descr="http://ts1.mm.bing.net/images/thumbnail.aspx?q=1083417048892&amp;id=8865713c1cefc1a8c2c7db461961b0e2&amp;url=http%3a%2f%2fudl4all.pbworks.com%2ff%2f1214179044%2fUDLWordle.jpg">
                  <a:hlinkClick r:id="rId2"/>
                </p:cNvPr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632560" y="1085760"/>
                  <a:ext cx="2743200" cy="196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Rectangle 3"/>
                <p:cNvSpPr/>
                <p:nvPr/>
              </p:nvSpPr>
              <p:spPr>
                <a:xfrm rot="5400000">
                  <a:off x="4812120" y="2001960"/>
                  <a:ext cx="1253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udl4all.pbworks.com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62" name="Picture 6" descr="http://ts3.mm.bing.net/images/thumbnail.aspx?q=1265768802482&amp;id=e176ffc0d321ea5ec1595d92264833b5&amp;url=http%3a%2f%2fwww.natcom.org%2fuploadedImages%2fCommunicationCurrents_Articles%2fVolume_5%2fIllustration%2520-%2520Online%2520Education.jpg">
                  <a:hlinkClick r:id="rId4"/>
                </p:cNvPr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00800" y="3994200"/>
                  <a:ext cx="2743200" cy="278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Rectangle 7"/>
                <p:cNvSpPr/>
                <p:nvPr/>
              </p:nvSpPr>
              <p:spPr>
                <a:xfrm>
                  <a:off x="7226640" y="3761640"/>
                  <a:ext cx="113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ff"/>
                      </a:solidFill>
                      <a:uFillTx/>
                      <a:latin typeface="Calibri"/>
                      <a:hlinkClick r:id="rId6"/>
                    </a:rPr>
                    <a:t>www.natcom.org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64" name="Curved Connector 9"/>
                <p:cNvCxnSpPr/>
                <p:nvPr/>
              </p:nvCxnSpPr>
              <p:spPr>
                <a:xfrm flipV="1" rot="10800000">
                  <a:off x="2998080" y="2125080"/>
                  <a:ext cx="2049120" cy="1784520"/>
                </a:xfrm>
                <a:prstGeom prst="curvedConnector5">
                  <a:avLst>
                    <a:gd name="adj1" fmla="val 49991"/>
                    <a:gd name="adj2" fmla="val 50000"/>
                    <a:gd name="adj3" fmla="val 49991"/>
                  </a:avLst>
                </a:prstGeom>
                <a:ln w="4140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5" name="Straight Arrow Connector 11"/>
                <p:cNvCxnSpPr/>
                <p:nvPr/>
              </p:nvCxnSpPr>
              <p:spPr>
                <a:xfrm>
                  <a:off x="3144960" y="5024880"/>
                  <a:ext cx="3512160" cy="223560"/>
                </a:xfrm>
                <a:prstGeom prst="straightConnector1">
                  <a:avLst/>
                </a:prstGeom>
                <a:ln w="4140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</p:grpSp>
        <p:pic>
          <p:nvPicPr>
            <p:cNvPr id="66" name="Picture 2" descr="http://homepage.mac.com/yogitrish/facilitation/images/LBD.jpg"/>
            <p:cNvPicPr/>
            <p:nvPr/>
          </p:nvPicPr>
          <p:blipFill>
            <a:blip r:embed="rId7"/>
            <a:stretch/>
          </p:blipFill>
          <p:spPr>
            <a:xfrm>
              <a:off x="0" y="3124080"/>
              <a:ext cx="26816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15"/>
            <p:cNvSpPr/>
            <p:nvPr/>
          </p:nvSpPr>
          <p:spPr>
            <a:xfrm>
              <a:off x="923400" y="5334120"/>
              <a:ext cx="122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homepage.mac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mcdonaBB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8"/>
          <p:cNvGrpSpPr/>
          <p:nvPr/>
        </p:nvGrpSpPr>
        <p:grpSpPr>
          <a:xfrm>
            <a:off x="0" y="100080"/>
            <a:ext cx="9115560" cy="6757920"/>
            <a:chOff x="0" y="100080"/>
            <a:chExt cx="9115560" cy="6757920"/>
          </a:xfrm>
        </p:grpSpPr>
        <p:pic>
          <p:nvPicPr>
            <p:cNvPr id="71" name="Rectangle 1" descr=""/>
            <p:cNvPicPr/>
            <p:nvPr/>
          </p:nvPicPr>
          <p:blipFill>
            <a:blip r:embed="rId1"/>
            <a:stretch/>
          </p:blipFill>
          <p:spPr>
            <a:xfrm>
              <a:off x="48600" y="100080"/>
              <a:ext cx="8948880" cy="175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Group 16"/>
            <p:cNvGrpSpPr/>
            <p:nvPr/>
          </p:nvGrpSpPr>
          <p:grpSpPr>
            <a:xfrm>
              <a:off x="0" y="1078200"/>
              <a:ext cx="9115560" cy="5779800"/>
              <a:chOff x="0" y="1078200"/>
              <a:chExt cx="9115560" cy="5779800"/>
            </a:xfrm>
          </p:grpSpPr>
          <p:pic>
            <p:nvPicPr>
              <p:cNvPr id="73" name="Picture 2" descr="http://ts1.mm.bing.net/images/thumbnail.aspx?q=1235856530992&amp;id=4ceb726f9eee1d53dbf35f58b9099c5c&amp;url=http%3a%2f%2fwww.thankq.co.uk%2fvar%2fuploads%2fcache%2ffilemanager%2f43%2f40cd750bba9870f18aada2478b24840a%2fimprovingyourperformance.png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761760" y="1078200"/>
                <a:ext cx="2857320" cy="25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Rectangle 3"/>
              <p:cNvSpPr/>
              <p:nvPr/>
            </p:nvSpPr>
            <p:spPr>
              <a:xfrm rot="16200000">
                <a:off x="64440" y="2337480"/>
                <a:ext cx="11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4"/>
                  </a:rPr>
                  <a:t>www.thankq.co.uk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5" name="Picture 4" descr="http://ts3.mm.bing.net/images/thumbnail.aspx?q=1185249501130&amp;id=dc026cef592c605cac68d9086cb5cfbb&amp;url=http%3a%2f%2fwww.performint.com%2fimages%2fj0423022.jpg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0" y="4079160"/>
                <a:ext cx="2857320" cy="27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Rectangle 5"/>
              <p:cNvSpPr/>
              <p:nvPr/>
            </p:nvSpPr>
            <p:spPr>
              <a:xfrm rot="5400000">
                <a:off x="2354040" y="5361120"/>
                <a:ext cx="1297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7"/>
                  </a:rPr>
                  <a:t>www.performint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7" name="Picture 6" descr="http://ts4.mm.bing.net/images/thumbnail.aspx?q=1080226351887&amp;id=ea34be75c937975fb9aa9fd4bab46b89&amp;url=http%3a%2f%2fwww.fennassociates.com%2fimg%2flead-04.jpg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258240" y="1300320"/>
                <a:ext cx="2857320" cy="27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Rectangle 7"/>
              <p:cNvSpPr/>
              <p:nvPr/>
            </p:nvSpPr>
            <p:spPr>
              <a:xfrm>
                <a:off x="6868080" y="1300320"/>
                <a:ext cx="149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10"/>
                  </a:rPr>
                  <a:t>www.fennassociates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9" name="Picture 8" descr="http://ts3.mm.bing.net/images/thumbnail.aspx?q=1265710214790&amp;id=db281cc108b7724de3541eb52f2ed45f&amp;url=http%3a%2f%2f4.bp.blogspot.com%2f_LDPqzb26LwI%2fS7VcMMrYNxI%2fAAAAAAAAACA%2fDBd0J5XllQI%2fs1600%2f3hurdle.left.JPG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4572000" y="4486680"/>
                <a:ext cx="2857320" cy="20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Rectangle 9"/>
              <p:cNvSpPr/>
              <p:nvPr/>
            </p:nvSpPr>
            <p:spPr>
              <a:xfrm>
                <a:off x="4354560" y="6499080"/>
                <a:ext cx="180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accoladeathletics.blogspot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81" name="Straight Arrow Connector 11"/>
              <p:cNvCxnSpPr/>
              <p:nvPr/>
            </p:nvCxnSpPr>
            <p:spPr>
              <a:xfrm>
                <a:off x="3429000" y="2930400"/>
                <a:ext cx="1219680" cy="1334520"/>
              </a:xfrm>
              <a:prstGeom prst="straightConnector1">
                <a:avLst/>
              </a:prstGeom>
              <a:ln w="4140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82" name="Straight Arrow Connector 13"/>
              <p:cNvCxnSpPr/>
              <p:nvPr/>
            </p:nvCxnSpPr>
            <p:spPr>
              <a:xfrm flipV="1">
                <a:off x="5181480" y="3078000"/>
                <a:ext cx="915120" cy="1186200"/>
              </a:xfrm>
              <a:prstGeom prst="straightConnector1">
                <a:avLst/>
              </a:prstGeom>
              <a:ln w="4140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83" name="Curved Connector 15"/>
              <p:cNvCxnSpPr/>
              <p:nvPr/>
            </p:nvCxnSpPr>
            <p:spPr>
              <a:xfrm flipV="1" rot="10800000">
                <a:off x="3275640" y="2041200"/>
                <a:ext cx="2743920" cy="2520000"/>
              </a:xfrm>
              <a:prstGeom prst="curvedConnector5">
                <a:avLst>
                  <a:gd name="adj1" fmla="val 49993"/>
                  <a:gd name="adj2" fmla="val 49992"/>
                  <a:gd name="adj3" fmla="val 49993"/>
                </a:avLst>
              </a:prstGeom>
              <a:ln w="4140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mcdonalds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61920" y="0"/>
            <a:ext cx="9082080" cy="6858000"/>
            <a:chOff x="61920" y="0"/>
            <a:chExt cx="9082080" cy="6858000"/>
          </a:xfrm>
        </p:grpSpPr>
        <p:pic>
          <p:nvPicPr>
            <p:cNvPr id="87" name="Rectangle 1" descr=""/>
            <p:cNvPicPr/>
            <p:nvPr/>
          </p:nvPicPr>
          <p:blipFill>
            <a:blip r:embed="rId1"/>
            <a:stretch/>
          </p:blipFill>
          <p:spPr>
            <a:xfrm>
              <a:off x="2859120" y="0"/>
              <a:ext cx="334044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Group 16"/>
            <p:cNvGrpSpPr/>
            <p:nvPr/>
          </p:nvGrpSpPr>
          <p:grpSpPr>
            <a:xfrm>
              <a:off x="61920" y="1083600"/>
              <a:ext cx="9082080" cy="5774400"/>
              <a:chOff x="61920" y="1083600"/>
              <a:chExt cx="9082080" cy="5774400"/>
            </a:xfrm>
          </p:grpSpPr>
          <p:pic>
            <p:nvPicPr>
              <p:cNvPr id="89" name="Picture 2" descr="http://ts3.mm.bing.net/images/thumbnail.aspx?q=1250569228662&amp;id=f7fab6b6c921b89237abe5c46691eddb&amp;url=http%3a%2f%2ffc04.deviantart.net%2ffs70%2ff%2f2010%2f328%2f3%2f5%2fcreating_lady_gaga_custom_doll_by_noeling-d33if40.jpg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381240" y="1157400"/>
                <a:ext cx="2857320" cy="26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Rectangle 3"/>
              <p:cNvSpPr/>
              <p:nvPr/>
            </p:nvSpPr>
            <p:spPr>
              <a:xfrm rot="16200000">
                <a:off x="-504720" y="2403720"/>
                <a:ext cx="1380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oeling.deviantart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" name="Picture 4" descr="http://ts2.mm.bing.net/images/thumbnail.aspx?q=1239980977945&amp;id=63f3d31bdaec5a09b82d47c4d52006f9&amp;url=http%3a%2f%2fellisstill.files.wordpress.com%2f2010%2f02%2fistock_000010776716medium.jpg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3429360" y="3082320"/>
                <a:ext cx="2857320" cy="19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Rectangle 5"/>
              <p:cNvSpPr/>
              <p:nvPr/>
            </p:nvSpPr>
            <p:spPr>
              <a:xfrm>
                <a:off x="4124880" y="4415040"/>
                <a:ext cx="1380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ellisstill.wordpress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" name="Picture 6" descr="http://ts1.mm.bing.net/images/thumbnail.aspx?q=1239856194536&amp;id=bfb0dedd2f8ebb47cb7d79b30dcfc505&amp;url=http%3a%2f%2fwww.realsoftwaredevelopment.com%2fWindowsLiveWriter%2fgreatstart_1.jpg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6286680" y="4794480"/>
                <a:ext cx="285732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Rectangle 7"/>
              <p:cNvSpPr/>
              <p:nvPr/>
            </p:nvSpPr>
            <p:spPr>
              <a:xfrm>
                <a:off x="6793560" y="4489200"/>
                <a:ext cx="175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8"/>
                  </a:rPr>
                  <a:t>www.beinteriordecorator.co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2" descr="http://t3.gstatic.com/images?q=tbn:ANd9GcTj_yKO689f5XQ-mbDGuA0DEGwuCZfZTu_MFXjCUCROdmLSbqHY3g"/>
              <p:cNvPicPr/>
              <p:nvPr/>
            </p:nvPicPr>
            <p:blipFill>
              <a:blip r:embed="rId9"/>
              <a:stretch/>
            </p:blipFill>
            <p:spPr>
              <a:xfrm>
                <a:off x="5943960" y="1157400"/>
                <a:ext cx="2466720" cy="179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Rectangle 9"/>
              <p:cNvSpPr/>
              <p:nvPr/>
            </p:nvSpPr>
            <p:spPr>
              <a:xfrm rot="5400000">
                <a:off x="7542360" y="1922760"/>
                <a:ext cx="192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ff"/>
                    </a:solidFill>
                    <a:uFillTx/>
                    <a:latin typeface="Calibri"/>
                    <a:hlinkClick r:id="rId10"/>
                  </a:rPr>
                  <a:t>creating‑ideas‑with‑scamper.jpg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97" name="Curved Connector 11"/>
              <p:cNvCxnSpPr/>
              <p:nvPr/>
            </p:nvCxnSpPr>
            <p:spPr>
              <a:xfrm flipV="1" rot="10800000">
                <a:off x="6095520" y="3156120"/>
                <a:ext cx="991080" cy="666720"/>
              </a:xfrm>
              <a:prstGeom prst="curvedConnector5">
                <a:avLst>
                  <a:gd name="adj1" fmla="val 50000"/>
                  <a:gd name="adj2" fmla="val 49972"/>
                  <a:gd name="adj3" fmla="val 50000"/>
                </a:avLst>
              </a:prstGeom>
              <a:ln w="4140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98" name="Straight Arrow Connector 13"/>
              <p:cNvCxnSpPr/>
              <p:nvPr/>
            </p:nvCxnSpPr>
            <p:spPr>
              <a:xfrm flipH="1" flipV="1">
                <a:off x="3428640" y="2563560"/>
                <a:ext cx="914760" cy="518760"/>
              </a:xfrm>
              <a:prstGeom prst="straightConnector1">
                <a:avLst/>
              </a:prstGeom>
              <a:ln w="4140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99" name="Curved Connector 15"/>
              <p:cNvCxnSpPr/>
              <p:nvPr/>
            </p:nvCxnSpPr>
            <p:spPr>
              <a:xfrm>
                <a:off x="1981440" y="3970440"/>
                <a:ext cx="3962880" cy="2221560"/>
              </a:xfrm>
              <a:prstGeom prst="curvedConnector5">
                <a:avLst>
                  <a:gd name="adj1" fmla="val 49995"/>
                  <a:gd name="adj2" fmla="val 50000"/>
                  <a:gd name="adj3" fmla="val 49995"/>
                </a:avLst>
              </a:prstGeom>
              <a:ln w="4140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mcdonald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8:28:03Z</dcterms:created>
  <dc:creator>install</dc:creator>
  <dc:description/>
  <dc:language>en-US</dc:language>
  <cp:lastModifiedBy>Technology Department</cp:lastModifiedBy>
  <dcterms:modified xsi:type="dcterms:W3CDTF">2011-09-25T06:44:13Z</dcterms:modified>
  <cp:revision>14</cp:revision>
  <dc:subject/>
  <dc:title>"Educational technology is the study and ethical practice of facilitating learning and improving performance by creating, using, and managing appropriate technological processes and resources" (Januszewski &amp; Molenda, 2008, p. 1). (Italics added for emphasis) </dc:title>
</cp:coreProperties>
</file>